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27.jpeg" ContentType="image/jpeg"/>
  <Override PartName="/ppt/media/image33.jpeg" ContentType="image/jpeg"/>
  <Override PartName="/ppt/media/image34.gif" ContentType="image/gif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2E7-0399-41A2-BBC4-A7075FF5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193-66DC-4302-B014-3A2CE56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247A-A5FA-4E2B-9390-9F645F5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F200-8BBB-4EED-94C6-AAB6F22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6D855-5CFF-416C-9016-C34E9E71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CD770-7D3D-4E16-AF90-7AF93396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66602-3886-45B9-AED7-59E4A36C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BEC48-9FFD-4792-AC3E-6011F18B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F458A-1E45-4171-95CB-64F16D6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52862-3276-4A50-887D-82860BAD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740F5-D1B8-4EB8-9F40-6311D9F2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25B22-E638-49FB-A389-B75A8A10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4A1-2089-4C1B-A032-55CC9AC1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57CA2-1CCF-4840-BE38-7C0E364B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AEE4-ED54-45AB-ADC6-E9718BC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7F099-F8D5-4490-AA69-DC3A9F4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D1D85-3AF5-4677-94AE-CDF60C0B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EBCEA-2827-4936-9E89-ED63E96F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81597-BF86-466E-9C0B-52D0B9AB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2947D-AF92-4243-93AE-B705173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47F36-C945-4019-AF8A-C4CE998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1D801-D190-4EFD-B2FE-96C9574D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9CE97-C93D-4D59-8F0D-49A3EEDB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5AC-5F6D-466D-9298-46B3C618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741A3-8AA8-4270-B4E8-EDCB514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7D3C0-9F3E-49D3-9BE0-8AB98BBB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451F-5752-4F59-97E8-477CAC0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9D403-5F9B-46AA-9779-1E7CFF11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859B9-10AF-4C1A-8BC4-263691F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EF082-9795-4977-B7E7-4C91EC52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96E10-438E-4372-953C-E1598540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FD2A-060B-4E24-8667-B51F0C1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0846A-F200-4700-AD43-E89BDCF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0B7D-1A22-4A18-9D8C-84660B9F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482-3741-4B61-AEF8-CBDD065A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633D1-4CDF-4B1D-9502-1C96398E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162C2-8385-4B49-905B-7200884C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2C5F5-694C-4E1C-A3CE-053DC858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0C3D4-2394-4434-A08A-D6C493C7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315E2-36C8-478E-B5C7-AC9C393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BD5E-0806-4E0A-B388-15CB9037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50E1B-5094-4B3D-B913-151B37BC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BD1BF-E737-4AF5-A19D-BDACEFE3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10554-DEE9-4871-B8E3-D0DF9AA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5592C-591E-4C5C-863F-98DB87D6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97E0-0EF6-4F4B-9DC9-699F8E2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D75D9-9BCE-42EE-A846-1C2F83A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94A3C-3432-4A74-A706-2DFDC9C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589D8-26B1-4847-B3EF-9D82F17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2A693-7850-4272-A610-E7FB3898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CE9AE-3FB7-40F1-A5F9-D0761DF9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E5F39-E0AE-402A-AD38-A5E8CAAA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706B1-4183-49A4-B2FE-2EA1AA10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F225F-C08D-4C8A-8CA6-EA83002D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9086E-4D57-40FE-B67C-AA878404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91997-160E-4793-9D94-6BE10AD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FF8-619A-489A-975E-BF2A4AF6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A5A3E-7B83-439B-BC8B-29C22553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59674-F054-4B44-BB0C-88D92A7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A16E5-22F0-40BA-BB10-91FA9B1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3549A-2AB8-4811-8553-2C3EF2A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1F986-2B46-4786-AC0C-01CE4BC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EDF9B-8435-4C5F-8DB3-E8AAEE33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F4CE7-A23F-4ECE-AA75-62D68CED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EC4060-ABB3-4E8D-98A6-C6A743E8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EB43AE-F7A4-4701-9D25-C32F300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B9C53C-620C-4B6B-91B6-FA33484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66D4-908B-4019-AD4B-B05F3929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AAA02D-EA07-4D6E-8ABE-06271BC9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D24378-61FC-4715-B67A-23BD8CCF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53EDDB-1857-4EAD-9A9D-983D1C93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7076B1-6C3C-4004-87F0-85BF05C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A08EE1-AB66-47AF-91E0-EEAA19B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2CCD59-FD9F-48A0-881F-A479D9F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61CCBB-E733-4DDC-A767-924E5C6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3FA01E-4E5B-42C1-8C85-4E15A7BE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36C243-ADEB-4EA2-A0D7-2D6F2282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EE4E2-40B2-48B8-AAC1-1E1DB036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80C-BE53-4C85-83E7-A9E5B69D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74FBF-22B2-4CDD-8ECE-4E56B169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D923E-C91D-46CF-8B41-C4E0988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83AC0-A306-4CC8-9FF1-7DE7DF97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ADD21-6229-47E7-9C79-4F4F6FE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6EE08-D5E9-4B86-9117-51DDFC5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E81F8-9486-4F33-8BFE-ABEC928A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3611D-5818-458A-B25C-0FC54E50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EF8CA-23EF-4EC3-8671-3E030E3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C1ED0-A877-47CA-BDAB-BF185872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6D886-470D-4816-B22D-AFD69B85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6D88-1F95-4BEB-A390-397A61F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0A5C1-B84D-4FBF-BBE8-C7951E4E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30DEA3-CCE9-43B0-BD47-AE0CE243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E68CC5-E269-41BE-89E8-2D5A17EF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A1DA6F-A8E4-432D-9A5F-E651D5B0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BBB323-23A6-43EB-88F5-42FD1209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6554A5-D703-4CE3-8CCD-90019A94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AE7E83-2AFB-48D8-B1F9-E4D87A47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5740BA-6967-42C5-90C0-4AAAA14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38DD03-04F3-4D52-9059-A172A85C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C36C67-8C6B-489A-B776-17957B5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9302-E443-4FFB-BB3B-7E6FFC0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43E958-780A-4547-B296-FBBCCAD2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AD2CD9-C3E5-45F6-AB39-D85670A4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6BA7FA-3412-4E41-B3A6-27D27716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EB5AB-1F74-4C1D-BBBC-49454F33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3890C-22FD-419B-8027-58A72A09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73A5F-CD7A-4BE1-94C0-B30C87FD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F036B-EFC7-4D7F-AA70-2F60160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BCF35-7A35-4362-9EDC-6698FC50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C6147-CC62-4463-9012-FC00C206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B9B17-8548-4079-97D8-7E91AF7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E3D-D37B-408F-AACB-F688EA3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E5B7-2C22-468E-B3D3-30C81B12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B405E-F16D-4BF2-BAA3-A016339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7F5CE-5F4B-4265-A36F-E2F4CF0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7DDC0-DD13-4C79-BADA-BF4BA4F2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52136-3906-445D-AA99-E8D2080B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8907C-4A08-4EE4-BF11-329A355E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DAD0F-56F7-4153-91F6-41A63B84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4FB9B-2A98-4B2D-B733-F793F7C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1E5BB-8D7C-428B-A55E-E577885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48C9C-C650-4ABC-9761-B0001737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7BDB4-8913-4588-8968-4793BF8A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915-C8FF-48B5-B9A3-B5DF2EE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ECD83-0F46-4A58-9649-1019B75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67325-E771-44E7-B7D5-F06DF09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1B2B6-0E88-4739-867A-CB4BD88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192C0-F645-4B7E-A107-9B5B3A7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942A4-749A-4FB2-9259-8538385F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68C46-1940-468C-A4E9-39434C8D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0B385-F688-4955-9E6C-6730ADE3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BA2E7-5845-423E-BBE7-8055CE64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895AD-3F1F-4F27-A3BF-999DFDD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CAFC3-5D91-4FEF-8A5F-4C85B94F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56A-5619-4704-8738-671BE2F5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B45BD-0BB8-4745-B739-1C41150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A6D86-9B1E-4CCC-B103-0A96E33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A5A3E-BD0C-4839-90A8-124E7B93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D4680-3623-471C-BDBB-F1E53EBA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E59BD-2802-42BA-88D5-3BBBDFDD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78A4B-DEC4-4760-9048-687A729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C8172-B903-40F7-ABBA-FA77C54C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57C93-40F7-4742-9024-5186E72E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ECDE0-E725-436E-92AD-21A69C77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61E06-4F93-4719-9E14-0314015E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77DF-2334-48AB-9511-ABFCEFE3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425E1-7BD1-4489-A1E8-8EAD15F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1CC32-ED5C-4C6B-8C9E-A43B44D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DF807-9F81-464C-AEA4-51D50FB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46F40-652C-4DAC-B424-2C2E124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CF014-2A3F-4A88-B37F-C3E8130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26D69-B323-4369-A3AE-052E833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B02A0-80C5-4F52-A0E7-EE5681E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F36C4-11EC-4D99-AACF-1024A71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B4A1A-A88D-4A6B-A776-A4C366E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BE28B-3AEC-4D00-8765-91ADE3B2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8DD1-6D14-4A64-A115-386A3EA8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03186-E352-4705-9D7A-99AEE1D0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91067-B310-40F2-AEDD-4F10D518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6EF04-F1C9-42C7-AC06-4D8064A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744DA-C24E-440F-A4F1-5F8E123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DB89D-DDE6-4610-AD48-FC359A91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B61FB2-28BB-4A5B-9475-248A2B42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ABDB1-B2E7-422E-8CDD-4CA1CB4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A7B9D-0812-4F25-A77E-77CC491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DA6B2-3080-4122-980B-10A425D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A1620-95BC-4DAB-9DED-B3A8FA4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D8B5-F9AE-4FC8-9F5D-64B129C1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998E7-DD91-4CD5-8E60-0D3DA12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BF7DF9-FCB5-4F5D-801B-1FF9B790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5B25B-CFCE-4E8F-9793-669C6FF1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0C7C5-3A1D-4042-9D07-1A82D578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158BF-9654-4349-8EA8-C97C8B78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7C8A9-3DFB-4697-8C2C-FF36084E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C4C25-BE3B-4D8C-A5BC-E18F91A5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D4B7A-CECD-465B-A4FC-545A7E9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A7DCA-08D9-44A2-B333-645B067D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2F910-19B2-4D44-AA55-6515ED2B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F8E9-2B00-4F2B-8701-CCB077DA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52214-BF04-42D7-9C3C-30B9239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D6B83-EBCB-442B-8F79-45430E2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C1134-705A-4387-95F9-D47938F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C3284C-DB40-4673-A096-F1DF8962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625E4D-B3EB-40B6-9FA0-653625A7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65729-E311-4945-BD7C-E93E85FD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1AD3DC-C2D8-40E5-9E5F-FBBE2227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BA8E6F-9BC0-47BC-BB66-234F8BA7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3F53FF-310A-45C2-914F-F0F0CBCF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00C2E-5A53-4CF9-A2C8-8F90DA78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619C-C971-4D0D-A731-87E368E8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4BD4D-D19C-4814-A588-1681004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FB553-B93A-4847-94D8-59EA44E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421DE9-00BB-4ADB-B2C2-630238F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842465-D13D-42FB-ABAF-E2DEC36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AC87C-84C6-4FAA-9F97-B97078F2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E1F0AC-CBEA-4806-9F18-2A945995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403EFB-8297-4B1B-8EDE-881200A8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7D1CD7-8D83-494A-90BB-7C343B34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AA5F8-2AD2-405D-BEB7-C22B51BB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92B434-4BDD-41B8-B3A9-3429471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370A-DFAE-4A2A-91A8-9D366E16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7AB5E1-955A-4162-A558-63128F88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AED15F-0454-4A73-82EF-DECE1D2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D30FE-D10A-4673-BAA3-6A4F0C0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F929B-4097-41DD-9240-784B23A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2B6177-606A-4B0E-AE11-16EB8E8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7C3E5B-E943-45F1-BECF-92FC010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0A3F87-12F6-483B-A171-C4D9E5B0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9B06CA-1F69-475F-ADED-A6FC4B05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A1F27F-4882-4191-9996-297CACC3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FC06C0-AFDE-421F-A4F9-B68EE6D0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94FF-C380-499A-929F-08268CF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4DD493-25DA-479A-8871-9F95261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6E4FFC-0D42-4391-8F0D-37D7C833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2C45AA-2951-4C7B-89F7-CF48883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049372-5877-41B1-8A48-21839F1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B1318C-2002-4FC4-80E5-EDA6ADA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DB1329-3DA3-412B-B9BC-6B97B32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15A8B3-ED7E-416E-A8F6-CADB874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884F59-7F6C-4737-AB1F-83779AC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851387-3CDB-4C0F-A132-2B85EEA2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8C069F-1946-4542-B3B5-EBFCB15C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C6F-6FCE-43D2-9A7D-C06DFAE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2DD2-49FA-4184-86B9-E5A764D9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1C9B7B-D19F-47E3-BCBB-378E2B5F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1816-50E7-4F6F-8A5A-5174D14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540B-9BE7-4516-B8DD-5A9F17D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5EAC-EB80-4696-84A8-4697623F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9DE2-6101-47A3-A19A-685EDEE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15E4-102C-4E3B-9827-2A33BCD5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1165-1C8B-47D0-B27F-ACED822F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0208-19FF-478B-A1C4-A4CB55A4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7547-1832-43DA-B470-8D04D8B2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83AA-2AD3-4F7A-A31C-3F89519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FB8-BE2E-4DEE-A6C7-FCF8AF24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938D-A190-4947-9636-9512440F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45B9-8E51-4D6F-9801-6C499B00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F1DC-B718-4CF2-874C-5BD3776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C4D4-650D-47F0-977F-E0F0B08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A790-D976-4944-87EC-84C008B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1E95-4822-4EB0-9512-5873D1E4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E76AE-F28A-4589-B0C5-38B74A3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2C03-C271-41F6-AF5A-630358C3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99B3-A81C-4E18-98A5-205313EA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C1FF9-17A3-4F5C-AAA8-ED110088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3C3-1C55-4FD6-B8DE-EB75E4D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DC41-F0F8-452A-9928-71368A74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A643-FC2C-4E9C-AC36-268F96C4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4A3A-85A0-4035-AB4B-B04937A4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940D-9F1B-466F-B21D-9520F43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E41EA-22E2-4EA9-87D3-5D8A9D95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3C86B-FC6B-439E-A018-F8DE668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B9FDF-99E3-44BC-B452-FF3203AA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31DC-4CA3-4BF3-9E77-E38159E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CF6E-C43B-4564-AFAE-F8D10B29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68BF-4067-4772-B64E-D339E7F7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71B-608C-4E0B-9AD1-6170835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8946-25FB-4109-A009-8A4255E6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5CC3-76F3-4D9B-B110-09A7F694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93E15-8465-4BD1-835E-2B9007D2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7338-5F8B-46ED-AE56-6670E5E2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DAF2-B01B-4C9C-9ADB-6842A0F1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1AD1-8862-4AA3-BD2B-B164961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542EF-F16E-4765-B0A9-7BD024A8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93CE0-52BE-417B-8B44-B568AC4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674A-3958-42C4-B559-15D8842C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FE81-8194-4457-B34E-0072CE2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CA7-C77C-467A-945B-A18CB7C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3F62-F2AA-4660-8C8F-9A495E6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3BDA-9E48-4514-A824-B872671B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EFD74-09ED-4F0D-BDDA-6ABE5F22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F9D21-BADE-4D4C-B77D-55C2825F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98082-5753-4D56-8D08-A01E13F9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2221-D395-4AA5-B302-93E93A0B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5AF4B-1ADB-48DB-B887-95333EA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E16CA-7865-4478-B386-D406324B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0538-8176-404A-90B6-50C1B9DB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072F8-7E89-4132-8B0C-70C9DDCC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576-D1C5-43C0-A3E1-6062D6F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D3107-F389-44A5-A51B-82FFB36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C503D-287C-4962-BA21-695B05E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DE6F1-E827-4C05-A881-5D31667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0DFE-DD55-4B49-8809-6D995142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A7507-5013-43A9-B55C-02F7C669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B90E4-48F8-4C40-BE2B-B1F6122A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ADE3-9104-4DE1-853B-2116F8E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75FA1-1208-4A34-9337-0A1E2CF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9438-922F-46CB-A158-29C64A2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7FF6-484F-4C3D-85BA-4AF0041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8C0-63CB-4D2C-8B81-EF8DBBF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7D1E3-07A3-47F1-A25E-9DDB9246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049B-A284-45E5-9FC3-E4A1D89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1177F-140B-42CB-AE7F-00FCBCC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0A530-AA88-4E22-B4D5-A67FE6C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A4DC-516A-4222-A6C6-CAAE027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3F31-5665-472E-B305-02B47DB8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A6173-85F6-4DD2-A900-158B1AC8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D5F4C-55F7-4B37-9F94-9D2E1F1A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9C0F9-0E5A-4CAA-96F0-67CF9C79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58A27-2805-4D52-A726-C6F9A25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D562-D0FA-48AB-8C45-EDAEBDF04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54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54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55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57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628-D73A-4CEB-8283-BC2287F8E7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62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64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A10-697A-4F5E-96AD-ED0C7EBBA086}" type="slidenum">
              <a:rPr b="0" lang="en-A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688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70A2-9CC8-4B4E-8A41-156D6FFEE6B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466560" y="971640"/>
            <a:ext cx="7878960" cy="4662360"/>
          </a:xfrm>
          <a:custGeom>
            <a:avLst/>
            <a:gdLst/>
            <a:ahLst/>
            <a:rect l="l" t="t" r="r" b="b"/>
            <a:pathLst>
              <a:path w="4963" h="2937">
                <a:moveTo>
                  <a:pt x="2452" y="267"/>
                </a:moveTo>
                <a:lnTo>
                  <a:pt x="1468" y="233"/>
                </a:lnTo>
                <a:lnTo>
                  <a:pt x="683" y="155"/>
                </a:lnTo>
                <a:lnTo>
                  <a:pt x="178" y="47"/>
                </a:lnTo>
                <a:lnTo>
                  <a:pt x="7" y="2602"/>
                </a:lnTo>
                <a:lnTo>
                  <a:pt x="0" y="2804"/>
                </a:lnTo>
                <a:lnTo>
                  <a:pt x="244" y="2863"/>
                </a:lnTo>
                <a:lnTo>
                  <a:pt x="2358" y="2936"/>
                </a:lnTo>
                <a:lnTo>
                  <a:pt x="4962" y="304"/>
                </a:lnTo>
                <a:lnTo>
                  <a:pt x="4923" y="0"/>
                </a:lnTo>
                <a:lnTo>
                  <a:pt x="4328" y="131"/>
                </a:lnTo>
                <a:lnTo>
                  <a:pt x="3388" y="249"/>
                </a:lnTo>
                <a:lnTo>
                  <a:pt x="2402" y="265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3480" y="1190520"/>
            <a:ext cx="7820280" cy="4480200"/>
          </a:xfrm>
          <a:custGeom>
            <a:avLst/>
            <a:gdLst/>
            <a:ahLst/>
            <a:rect l="l" t="t" r="r" b="b"/>
            <a:pathLst>
              <a:path w="4926" h="2822">
                <a:moveTo>
                  <a:pt x="4925" y="188"/>
                </a:moveTo>
                <a:lnTo>
                  <a:pt x="4056" y="208"/>
                </a:lnTo>
                <a:lnTo>
                  <a:pt x="3401" y="214"/>
                </a:lnTo>
                <a:lnTo>
                  <a:pt x="2557" y="203"/>
                </a:lnTo>
                <a:lnTo>
                  <a:pt x="1820" y="171"/>
                </a:lnTo>
                <a:lnTo>
                  <a:pt x="1379" y="142"/>
                </a:lnTo>
                <a:lnTo>
                  <a:pt x="791" y="102"/>
                </a:lnTo>
                <a:lnTo>
                  <a:pt x="27" y="0"/>
                </a:lnTo>
                <a:lnTo>
                  <a:pt x="0" y="2633"/>
                </a:lnTo>
                <a:lnTo>
                  <a:pt x="365" y="2686"/>
                </a:lnTo>
                <a:lnTo>
                  <a:pt x="1280" y="2760"/>
                </a:lnTo>
                <a:lnTo>
                  <a:pt x="3635" y="2821"/>
                </a:lnTo>
                <a:lnTo>
                  <a:pt x="4504" y="2801"/>
                </a:lnTo>
                <a:lnTo>
                  <a:pt x="4849" y="1885"/>
                </a:lnTo>
                <a:lnTo>
                  <a:pt x="4850" y="1884"/>
                </a:lnTo>
                <a:lnTo>
                  <a:pt x="4925" y="188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740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780320" y="4352760"/>
            <a:ext cx="534960" cy="1425600"/>
          </a:xfrm>
          <a:custGeom>
            <a:avLst/>
            <a:gdLst/>
            <a:ahLst/>
            <a:rect l="l" t="t" r="r" b="b"/>
            <a:pathLst>
              <a:path w="337" h="898">
                <a:moveTo>
                  <a:pt x="336" y="0"/>
                </a:moveTo>
                <a:lnTo>
                  <a:pt x="11" y="897"/>
                </a:lnTo>
                <a:lnTo>
                  <a:pt x="29" y="809"/>
                </a:lnTo>
                <a:lnTo>
                  <a:pt x="33" y="761"/>
                </a:lnTo>
                <a:lnTo>
                  <a:pt x="38" y="680"/>
                </a:lnTo>
                <a:lnTo>
                  <a:pt x="32" y="556"/>
                </a:lnTo>
                <a:lnTo>
                  <a:pt x="15" y="462"/>
                </a:lnTo>
                <a:lnTo>
                  <a:pt x="0" y="367"/>
                </a:lnTo>
                <a:lnTo>
                  <a:pt x="250" y="144"/>
                </a:lnTo>
                <a:lnTo>
                  <a:pt x="336" y="0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3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3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8AAD-C97F-476E-823B-4B4E4261A21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42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799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dt" idx="43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44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45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847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848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853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858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863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D06-E3F8-4A9D-B968-7E735757FE1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0" y="0"/>
            <a:ext cx="9132840" cy="1638360"/>
            <a:chOff x="0" y="0"/>
            <a:chExt cx="9132840" cy="1638360"/>
          </a:xfrm>
        </p:grpSpPr>
        <p:sp>
          <p:nvSpPr>
            <p:cNvPr id="906" name=""/>
            <p:cNvSpPr/>
            <p:nvPr/>
          </p:nvSpPr>
          <p:spPr>
            <a:xfrm>
              <a:off x="0" y="0"/>
              <a:ext cx="9132840" cy="1542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0" y="1638360"/>
              <a:ext cx="91328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0" y="0"/>
            <a:ext cx="9132840" cy="342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680" y="342900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9360" y="3543480"/>
            <a:ext cx="91332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5D23-2291-477D-B987-BB72EB4168A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993" name="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52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5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A9B-F305-4771-B5E3-9F73541A78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1037" name="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dt" idx="55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sldNum" idx="57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DFD9-984D-434D-AE4A-749E34802D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F64-39AE-4866-8191-BDF94F786B73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080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7257-B5C7-4DC1-8645-E398D68F571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7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E9EF-C69A-4E09-BEFD-8E6A2CAB331C}" type="slidenum">
              <a:rPr b="0" lang="en-AU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169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731-F26D-4880-9FB7-458C5ECFE0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216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67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ftr" idx="68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sldNum" idx="69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4022-FEF2-400E-80E1-FD6DD71854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1263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111D-6B80-44B1-9AD7-4AA40B13C1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1309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dt" idx="73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ftr" idx="74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sldNum" idx="75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0BF-B7C1-4C1B-9153-09AFCD6D7DCC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197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198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214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39B-B190-400C-A4AF-FADC67A32C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274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275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E1AD-8B14-4DA7-ADAE-D314F66948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5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F75C-AA1C-4C3A-8CBA-2CB376664987}" type="slidenum">
              <a:rPr b="0" lang="en-A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0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19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0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7E72-B358-43C8-BCEF-ADD08722A00F}" type="slidenum">
              <a:rPr b="0" lang="en-A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4" name=""/>
            <p:cNvSpPr/>
            <p:nvPr/>
          </p:nvSpPr>
          <p:spPr>
            <a:xfrm>
              <a:off x="8839080" y="1828800"/>
              <a:ext cx="304920" cy="5029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0920" y="1828800"/>
              <a:ext cx="6248160" cy="50292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5715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4"/>
            <a:stretch/>
          </p:blipFill>
          <p:spPr>
            <a:xfrm>
              <a:off x="228600" y="175248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CEF5-9CE9-4BBD-9012-70760598EEA0}" type="slidenum"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3" name=""/>
            <p:cNvSpPr/>
            <p:nvPr/>
          </p:nvSpPr>
          <p:spPr>
            <a:xfrm>
              <a:off x="8839080" y="3429000"/>
              <a:ext cx="304920" cy="34290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90920" y="3429000"/>
              <a:ext cx="6248160" cy="34290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rcRect l="0" t="0" r="58457" b="0"/>
            <a:stretch/>
          </p:blipFill>
          <p:spPr>
            <a:xfrm>
              <a:off x="2590920" y="0"/>
              <a:ext cx="655308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"/>
            <a:stretch/>
          </p:blipFill>
          <p:spPr>
            <a:xfrm>
              <a:off x="380880" y="320040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6483-E7E1-486C-AA7A-634E9F583AA6}" type="slidenum"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3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.au/imgres?imgurl=http://www.quantum-conservation.org/EEP/kowari.gif&amp;imgrefurl=http://www.quantum-conservation.org/EEP/KOWARI.html&amp;h=309&amp;w=350&amp;sz=78&amp;hl=en&amp;start=1&amp;tbnid=dq_f5iO72T5SzM:&amp;tbnh=106&amp;tbnw=120&amp;prev=/images%3Fq%3Dkowari%26gbv%3D2%26svnum%3D10%26hl%3Den%26sa%3D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905120" y="184464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 Black"/>
              </a:rPr>
              <a:t>BEHAVIOURAL ADAPT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187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Behaviour in Anim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23493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19573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3"/>
          <a:stretch/>
        </p:blipFill>
        <p:spPr>
          <a:xfrm>
            <a:off x="0" y="5011560"/>
            <a:ext cx="2124000" cy="184644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/>
          <p:cNvPicPr/>
          <p:nvPr/>
        </p:nvPicPr>
        <p:blipFill>
          <a:blip r:embed="rId4"/>
          <a:stretch/>
        </p:blipFill>
        <p:spPr>
          <a:xfrm>
            <a:off x="6877080" y="4727520"/>
            <a:ext cx="2266920" cy="213048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/>
          <p:cNvPicPr/>
          <p:nvPr/>
        </p:nvPicPr>
        <p:blipFill>
          <a:blip r:embed="rId5"/>
          <a:stretch/>
        </p:blipFill>
        <p:spPr>
          <a:xfrm>
            <a:off x="0" y="3068640"/>
            <a:ext cx="1571760" cy="187308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/>
          <p:cNvPicPr/>
          <p:nvPr/>
        </p:nvPicPr>
        <p:blipFill>
          <a:blip r:embed="rId6"/>
          <a:stretch/>
        </p:blipFill>
        <p:spPr>
          <a:xfrm>
            <a:off x="2771640" y="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7"/>
          <a:stretch/>
        </p:blipFill>
        <p:spPr>
          <a:xfrm>
            <a:off x="6659640" y="206064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999933"/>
                </a:solidFill>
                <a:latin typeface="Times New Roman"/>
              </a:rPr>
              <a:t>Migration</a:t>
            </a:r>
            <a:endParaRPr b="0" lang="en-US" sz="6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The movement of large numbers of animals over long distances from one area to another area, and their subsequent return to their original home, is called migration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Animals usually migrate using the same route each time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A diverse range of species migrate – birds, fish, eels, insects and mammal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6443640" y="-85680"/>
            <a:ext cx="2700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999933"/>
                </a:solidFill>
                <a:latin typeface="Times New Roman"/>
              </a:rPr>
              <a:t>Migration</a:t>
            </a:r>
            <a:endParaRPr b="0" lang="en-US" sz="6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Some animals may take years to complete their migration cyc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Winter and the disappearance of food – migration.  Very low temperatures can be fatal to some speci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igration is an important survival strateg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999933"/>
                </a:solidFill>
                <a:latin typeface="Times New Roman"/>
              </a:rPr>
              <a:t>Bird Migration</a:t>
            </a:r>
            <a:endParaRPr b="0" lang="en-US" sz="6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ore than 1/3 of the world’s species of birds migra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999933"/>
                </a:solidFill>
                <a:latin typeface="Times New Roman"/>
              </a:rPr>
              <a:t>Why do birds migrate?</a:t>
            </a:r>
            <a:endParaRPr b="0" lang="en-US" sz="5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Birds need a constant supply of foo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Approach of winter, reduction in food supply.  Migrate to warmer climate for a more abundant food suppl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igratory behaviour enhances surviva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33"/>
                </a:solidFill>
                <a:latin typeface="Times New Roman"/>
              </a:rPr>
              <a:t>How do birds know where to fly?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Innate, young birds are born ‘knowing’ to migra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Sun, stars, Earth’s magnetic field help determine the direction of fligh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agnetite has been found in the tissues of some birds.  Its presence is related to the bird’s ability to navigate using the magnetic field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ommunication in the animals is an innate behaviour.  Can be through:- touch, posture, sound, visual display and chemical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ommunication behaviour is a response to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mportant components of communication include: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timulus for the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ender of a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ceiver to whom the signal is dir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kind of signal 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ow the signal is 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behaviour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setting in which the communication occ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ow does the Bower bird communicate that he is a good potential m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ssages to trick a compet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g alarm calls to trick a competitor (p 34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3300"/>
                </a:solidFill>
                <a:latin typeface="Times New Roman"/>
              </a:rPr>
              <a:t>The language of b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dance to indicate the location of a food source.  Bees also use sm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Why is it important for survival for worker bees to communicate to each regarding the location of a food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ff"/>
                </a:solidFill>
                <a:latin typeface="Times New Roman"/>
              </a:rPr>
              <a:t>COMMUNICATION UNDE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ound is an important means of communication under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ound is transmitted through water for long distances.  Light can only penetrate very short distances below the su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range of whale and dolphin noises include: blips, clicks, groans, moans and snores, lasting from a few seconds to several hou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Innate versus learned behaviou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study of animal behaviour is called et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focus of this section is to look at the function of particular behaviour, rather than the mechanisms underlying a particular behavio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Why do whales s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o locate and identify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uring court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6716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Times New Roman"/>
              </a:rPr>
              <a:t>Dolph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Use various sounds to communicate differen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Use sounds for location and nav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 for determining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1" name=""/>
          <p:cNvGraphicFramePr/>
          <p:nvPr/>
        </p:nvGraphicFramePr>
        <p:xfrm>
          <a:off x="3708360" y="1380960"/>
          <a:ext cx="5435640" cy="4907160"/>
        </p:xfrm>
        <a:graphic>
          <a:graphicData uri="http://schemas.openxmlformats.org/drawingml/2006/table">
            <a:tbl>
              <a:tblPr/>
              <a:tblGrid>
                <a:gridCol w="3065400"/>
                <a:gridCol w="2370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1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Times New Roman"/>
              </a:rPr>
              <a:t>CHEMICALS FOR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Pherom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Used for identifying the location of food sources (leaving a pheromone tr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ttract members of the opposite sex (eg female dogs release a pheromone in the urine to notify males she is ready for mat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n act over long or short di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Very easy for insects and other animals to locate a mate, even in sparsely populated 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Social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volves two or more individu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May involve cooperation (mating, food sour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May involve aggression and conflict as individuals or group to defend territory or select a 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Reproductive behaviour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(discussed further in chapter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ize of groups and reasons for which the animals group v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 group may be permanent or stay together until its members are such that it splits in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Being a member of a group is safer than being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Different kinds of groups are found in different species of anim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roups may be formed to make collecting food easier, for protection, for shelter or for ma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atever the reason, it increases the chances of survival of members of the group and the spe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Ca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g ants, bees, termites, some wa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ach caste has a different structure and performs a different function in the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Social Hier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at is a pecking ord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ighting occurs until an animal ‘knows its place’ in a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higher an animal is in the pecking order the greater access to food and other aspects of life in the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tronger animals in the group will have offspring that are more likely to be stronger members of the next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6ff33"/>
                </a:solidFill>
                <a:latin typeface="Arial"/>
              </a:rPr>
              <a:t>Social and Territorial Inte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GROUP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A complex social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Eg – Baboons with a dominant male and other males in rank order 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Why must a dog owner be the leader of the p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" descr=""/>
          <p:cNvPicPr/>
          <p:nvPr/>
        </p:nvPicPr>
        <p:blipFill>
          <a:blip r:embed="rId2"/>
          <a:stretch/>
        </p:blipFill>
        <p:spPr>
          <a:xfrm>
            <a:off x="2843280" y="5302080"/>
            <a:ext cx="216036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Territorial 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g The dreaded Magpie swoop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nimals select a territory and defend it, protecting a mating territory or food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Impact"/>
              </a:rPr>
              <a:t>Innate Behaviour - definition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When a behaviour is essentially the same in all members of a species, the behaviour is call innate or inborn behaviour. 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It is genetically controlled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List some innate animal behaviours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9900"/>
                </a:solidFill>
                <a:latin typeface="Times New Roman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nimals may compete for nesting places, positions in an hierarchy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roup dynamics is important for survival and reproduction in many spe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Social and Territorial Intera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0323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8000"/>
                </a:solidFill>
                <a:latin typeface="Verdana"/>
              </a:rPr>
              <a:t>CO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Animals often cooperate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324000" y="4395960"/>
            <a:ext cx="3887640" cy="204300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4356000" y="1052640"/>
            <a:ext cx="4788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nimals congregate in groups.  Wolves hunt in packs in order to corner their prey.  A wolf hunting singly would not be nearly as successful a hunter, and so we can call group hunting an adaptation since it increases the wolves’ chances of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Do Innate behaviours remain constan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nate behaviours are genetically determined and are similar in all members of the spe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owever, innate behaviour is not necessarily fully developed at birth and may be modified by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learning comes through trial-and-error and experi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20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ome behaviours change as a result of maturation of the body of an organism due to hormonal and structural cha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se should not be confused with learned behaviours which are those that develop or change as a result of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ble from page 343 repea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Eg food stimulus/respon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avlov’s Dog experiment – the ringing of a bell prior to feeding a dog.  Eventually the dog salivates just at the ringing of the b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971640" y="1819440"/>
            <a:ext cx="73911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avlov’s experiment is known as Classical Condit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perant Conditioning is trial-and-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079640" y="289080"/>
            <a:ext cx="7726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make responses that have 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equences serve to increase or decrease the likelihood of making that response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ponse can be associated with cue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put coins in a machine to obtain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e refrain when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 of Or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gn is placed on the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0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1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365120" y="394920"/>
            <a:ext cx="7297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Aspects of 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perant conditioning, the stimulus is a cue, it does not elicit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nt responses are volun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perant conditioning, the response elicits a reinforcing stimulus, whereas in classical conditioning, the UCS elicits the reflexiv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365120" y="394920"/>
            <a:ext cx="7297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Terms of 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inforc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y procedure that increases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y procedure that decreases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reinforc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imar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atisfy a biological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condar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ve learned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Learned Behaviour - defi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Learned behaviours are those that develop or change as we are shown how to do something.  Copy, trial-and-error are some of the ways animals learn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When a behaviour is changed as a result of experience, learning has occurred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Learning enables an animal to adapt to chang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600" spc="-1" strike="noStrike" u="sng">
                <a:solidFill>
                  <a:srgbClr val="ff9900"/>
                </a:solidFill>
                <a:uFillTx/>
                <a:latin typeface="Times New Roman"/>
              </a:rPr>
              <a:t>Habit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ability to ‘get used to’ a repeated stimulus, such as a noise, is called habitu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y is Habituation important for anim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- Animals will respond to a noise if they think it has been made by a pred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- Habituation enable animals to distinguish the unimportant noises and shapes from those that a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- Habituation allows animals to ignore meaningless stimuli and save energy for activities critical for survi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1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1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4000" spc="-1" strike="noStrike">
                <a:solidFill>
                  <a:srgbClr val="ff9900"/>
                </a:solidFill>
                <a:latin typeface="Times New Roman"/>
              </a:rPr>
              <a:t>Insigh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Insight learning is related to the ability of an animal to apply past experience to solving a new problem without a trial-and-error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ost highly developed in hum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y forms an important part in developing problem-solving skills for later 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4000" spc="-1" strike="noStrike">
                <a:solidFill>
                  <a:srgbClr val="ff9900"/>
                </a:solidFill>
                <a:latin typeface="Times New Roman"/>
              </a:rPr>
              <a:t>Imprin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formation of an attachment to something in the environment shortly after hatching or birth is called imprin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0033"/>
                </a:solidFill>
                <a:latin typeface="Times New Roman"/>
              </a:rPr>
              <a:t>The learning that takes place during imprinting is rapid and cannot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1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ING FROM ANIMAL BEHAVIOU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f we understand the natural behaviour of animals, we can also analyse and interpret any change in behavio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 change in animal behaviour can sometimes indicate a change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3044160" y="2811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ity performed in response to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03120" y="1144440"/>
            <a:ext cx="3116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nat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ehaviours that are essentially the same in all members of a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48200" y="1073160"/>
            <a:ext cx="2395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arned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ehaviours that develop or change as a result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79280" y="2349360"/>
            <a:ext cx="2881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hythmic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g. Eating, sleeping, seasonal 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4320" y="33577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munication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84320" y="39337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product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5240" y="450864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etit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5600" y="508464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minanc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8160" y="57340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rritor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970720" y="50324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cial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084720" y="2205000"/>
            <a:ext cx="2735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ditioning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pond to stimulus that normally does not elici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96000" y="3141720"/>
            <a:ext cx="3348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perant conditioning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imal relates behaviour with reward or punishment and repeats or avoids 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300720" y="4292640"/>
            <a:ext cx="259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abituation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ease to respond to stim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867280" y="5013360"/>
            <a:ext cx="3060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inting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sociation with an object after exposure to it very early in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580000" y="595008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bservational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– learns from observing actions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2205000"/>
            <a:ext cx="23032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Innate Behaviou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Rhythmic Behavi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Animals repeat behaviours at regular inter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Different species of animals may follow different patterns of rhythmic behavi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Differences in rhythmic behaviours may be a significant factor in the ability of a group of animals to exploit the resources within the area in which they live and avoid competition from other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Regulated by both internal and external f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internal – biological clo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external – l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Feeding Behaviou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7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Feeding may be: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On an individual ba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On a group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7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071440" cy="199224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1616040" cy="24242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3"/>
          <a:stretch/>
        </p:blipFill>
        <p:spPr>
          <a:xfrm>
            <a:off x="5076720" y="4508640"/>
            <a:ext cx="3672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imes New Roman"/>
              </a:rPr>
              <a:t>Spider We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Many innate behaviours in spiders involve the use of silk – in feeding and in reprodu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Spider webs vary in their design and structur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1616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cc00"/>
                </a:solidFill>
                <a:latin typeface="Times New Roman"/>
              </a:rPr>
              <a:t>Whales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692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The species of whales are classified into two major groups – Toothed and Bale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Differing structures result in differing behaviours related to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Gulping and skimming techniques suit the structures of the baleen whales (p34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Bubble netting is used by the humpback whale (p347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5909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0:29:43Z</dcterms:created>
  <dc:creator>clinnis</dc:creator>
  <dc:description/>
  <dc:language>en-US</dc:language>
  <cp:lastModifiedBy>Lyn Clarkson</cp:lastModifiedBy>
  <dcterms:modified xsi:type="dcterms:W3CDTF">2007-09-04T02:18:49Z</dcterms:modified>
  <cp:revision>17</cp:revision>
  <dc:subject/>
  <dc:title>BEHAVIOURAL ADAPTATIONS</dc:title>
</cp:coreProperties>
</file>